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1.jpeg" ContentType="image/jpeg"/>
  <Override PartName="/ppt/media/image19.png" ContentType="image/png"/>
  <Override PartName="/ppt/media/image26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7.jpeg" ContentType="image/jpeg"/>
  <Override PartName="/ppt/media/image10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15C6-ACAD-4D19-893B-8E351728E5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выполняют задани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CC92-EFA4-4004-9574-0017764335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маркером соединяют картинку с фразеологизмом. Дают толкование каждому фразеолог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C050-2283-41BD-83A2-CBCCFDF8CA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используют маркер для выполнения за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DC49-55B1-452F-A2A9-D2EBFE1F66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выполняют задани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6B6E-D017-45BA-B267-FD337B3FE4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задание выполняют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EFD6-462D-4018-BBB4-45A73D47D9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выполняют задани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F52E-77D3-49AF-97EC-ABE985665B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7F5-7AF6-4F64-86C6-741143E5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9CEA-E39B-491E-BBF1-EE34391F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4C4-5BEC-4D28-87CA-657D9814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347-C076-4574-838C-ACCEEF32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512F-A264-484C-92BB-5AE8B94E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8C17-BCBB-4378-9C42-53768856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4F13-C034-4C71-8EE0-4372BA37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282F-FE8C-4FA5-8EBA-318B3515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BA0A-7F0A-41E2-B898-C0780EDE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3D9A-C3CC-4A28-97C6-4020F788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402E-1B97-4EC5-98F2-30FD6247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09E-5579-461A-8DE8-0F8A1059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2425-61D7-4FCD-8A2C-6583033A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5088-37BE-410D-A951-24BB1EAA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F5E7-FCFC-46A0-BFF0-CF0A509B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7FC2-F2B8-410B-A155-C5D60AFA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B868-8E39-4FFD-941C-03433685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D4960-802D-413E-A4B0-8DF87C97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CB8AC-B58A-4E9D-9F8B-61A187B6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B3F52-B175-4066-B7D6-F9BD0F77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26A8D-35AF-4AEB-AA32-FF6B6221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FBE24-903D-4C4A-91BC-D05F09AC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FBD-2D92-492F-8FF3-B626C0AF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626A1-8633-402B-8B20-9E1EB5A1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45632-C29D-417E-A41F-AC1F2182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AB760-95AC-456A-AAD0-C4A2F1E7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CCBDD-F113-49BE-9A34-FC8B92C9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9E61A-81F3-4DD7-8ED3-C0E7253A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D601A-6A7D-488A-8D27-97866696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E13DF-FDF2-4B01-8ACE-E45F22C6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96821-9656-45D2-ABF5-C59DCB57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2A421-A3AA-4B6E-AAFC-120F65ED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7FA81-B744-47C5-AE4D-2F9F8646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CE93-0652-47BD-98FA-09DBABEA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BD809-0A21-4F63-9401-C1CC9531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719BE-A9B5-43A8-B8E4-48ED674B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7F27B-F224-4B30-8AD2-66CF3CBA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8C508-4237-46D3-9EA0-166F90CD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B7CED-DCF7-4B35-A32F-4840DDF6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93E19-6205-487D-8B8B-98F8FE72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3A8E7-497D-47E2-B0BE-7F13098D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22575-39C4-446E-92B2-C6F6393B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B86E1-3D34-4539-8023-73854635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FC70D-EFEF-4E80-9608-D8243483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EF4-F715-456D-B042-ABF2AC80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33B50-E704-4FC6-A873-719B201D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8DB7A-0FCB-4791-97AC-B8EFA58A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82028-4D6A-4A91-A8B1-045C732C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A3525-DEFF-422A-8C52-66552074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B9D0A-90C9-4DB5-8DB4-DD452807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F4E5B-47F6-422F-845E-70922E68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0538B-F4FC-44DE-B673-A2A10F75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08596-DACF-482A-9CAA-8663F72A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59C2E-1749-45E1-BF55-7FC5D03C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19A7E-B5D2-482D-8FD9-4FC756CE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15E8-369F-42F6-82FF-ACEAE3D5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09C61-7261-4A2A-ACB6-0A651148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5E88C-04E6-4CB3-911D-1E9389AC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5D417-87B7-4496-B00E-8DC61E2F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6CA77-DEF6-4591-93AA-AD65021D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D55D6-C072-44DC-9A85-DC8896F4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4E8D5-42EB-4ADF-85D1-8A8D496E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63DFF-C83D-4A99-A73B-1B54128D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EC2B0-7EE3-4599-B1F1-B44E5769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74077-E575-4D64-8C5E-B2BEDDD4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8C7B6-7006-408D-864E-DD4E40CB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49C-FDB7-4BCD-82A9-8F08859C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6AA8B-E749-4A24-BE12-77C39079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9DA0F-EF87-482E-BDED-C2073DB5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032AA-919E-4570-8D5B-7CA93A35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E68EE-EE67-4CE1-8E24-2E87F3CD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FC051-DF78-451A-8FFC-06D2A9A6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91351-A214-4C62-A467-C92FB697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B61AE-0DCA-47DE-B806-A8315484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1EC6F-3ABE-4510-815F-62987354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08622-7F3E-4C49-BE00-7EDFD8C6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497AC-6B5D-4CDC-ADE4-BF7C14E6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8BE-12EA-449E-9985-FA2D5F8C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C26A5-3826-4B8E-9028-C9E90A16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A6DD1-12AC-47CD-98CF-C5A3BC1A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51476-1F46-4201-9695-8A569AD7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BF6E2-B69C-4F6C-9ED2-9B082186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9E2D2-D362-4EC5-9F61-25BD7353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46278-2926-4275-A57A-79254B75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34829-9B50-4B24-B182-218A1648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7D75A-F51C-47D3-A61C-BA82FF87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CDEE2-6535-409C-90CC-CB223C3D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96B53-F01A-48A1-BCA1-909DB145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1B4D-1E6C-41A7-BA42-657C6C2D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26899-7A97-4D5E-BD75-3B2F8404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C6240-F377-45B9-94AE-B2E024F2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3D0D5-138E-44CC-9A27-7B3CB46E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621D0-EC8F-444A-89D6-C47B96FA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8EF4D-E5F2-44C3-8507-66A16A2D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BA040-BFF3-4C5D-9DBD-6F4E5943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6674D-1E8F-48A2-9EDB-427EA025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108E-D577-4FBD-9ECB-2873F01E4D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F028-535D-4FE3-8ECA-00E547D628B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C280-CE8E-438A-B18D-DE3B2B5624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9B9C-666B-4C3A-9A75-05CC792102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A6D0-2C46-4DA9-892B-4BE7498768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C396-9C51-434B-BB5F-D9838BAC7B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5744-8DA7-47B0-8606-70F1EA7D66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3DF7-CF77-46A2-AD51-1059A71A045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585720" y="1749600"/>
            <a:ext cx="829620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1528560"/>
            <a:ext cx="90360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робью по (локоть, макушку, колено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ячья (душа, лапа, шубка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м как (осёл, рыба, дельфин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6566040" cy="12002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9"/>
          <p:cNvSpPr/>
          <p:nvPr/>
        </p:nvSpPr>
        <p:spPr>
          <a:xfrm>
            <a:off x="611280" y="2492280"/>
            <a:ext cx="7740720" cy="45972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робью по ко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684360" y="3933720"/>
            <a:ext cx="5688000" cy="45972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ячья 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468360" y="5373720"/>
            <a:ext cx="6192720" cy="45972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 как ры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108000" y="1628280"/>
            <a:ext cx="8928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альчики оближешь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Не говорить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главног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Работать спустя рукава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Очень вкусно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Заговаривать зубы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Очень плохо!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-12600" y="55440"/>
            <a:ext cx="89852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324000" y="1484280"/>
          <a:ext cx="3960720" cy="539928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разеологиз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ито белями нитк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порная раб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ичь под одну гребён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звать огонь на себ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р не пройд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час по чайной лож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5651640" y="1484280"/>
          <a:ext cx="3111480" cy="5040360"/>
        </p:xfrm>
        <a:graphic>
          <a:graphicData uri="http://schemas.openxmlformats.org/drawingml/2006/table">
            <a:tbl>
              <a:tblPr/>
              <a:tblGrid>
                <a:gridCol w="3111480"/>
              </a:tblGrid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фесс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рикмах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тис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ач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от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5" name="Рисунок 5" descr="https://otkritkis.com/wp-content/uploads/2021/11/i-3.jpg"/>
          <p:cNvPicPr/>
          <p:nvPr/>
        </p:nvPicPr>
        <p:blipFill>
          <a:blip r:embed="rId1"/>
          <a:stretch/>
        </p:blipFill>
        <p:spPr>
          <a:xfrm>
            <a:off x="0" y="0"/>
            <a:ext cx="1332000" cy="134136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6" descr="https://fsd.multiurok.ru/html/2020/02/17/s_5e4a70e9c2104/1356415_1.jpeg"/>
          <p:cNvPicPr/>
          <p:nvPr/>
        </p:nvPicPr>
        <p:blipFill>
          <a:blip r:embed="rId2"/>
          <a:stretch/>
        </p:blipFill>
        <p:spPr>
          <a:xfrm>
            <a:off x="1332000" y="0"/>
            <a:ext cx="1347840" cy="141300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7" descr="https://kartinkin.net/uploads/posts/2022-02/1645927820_45-kartinkin-net-p-kartinki-dlya-parikmakherov-50.png"/>
          <p:cNvPicPr/>
          <p:nvPr/>
        </p:nvPicPr>
        <p:blipFill>
          <a:blip r:embed="rId3"/>
          <a:stretch/>
        </p:blipFill>
        <p:spPr>
          <a:xfrm>
            <a:off x="7956720" y="0"/>
            <a:ext cx="1187280" cy="148428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8" descr="https://iknigi.net/books_files/online_html/96661/i_082.jpg"/>
          <p:cNvPicPr/>
          <p:nvPr/>
        </p:nvPicPr>
        <p:blipFill>
          <a:blip r:embed="rId4"/>
          <a:stretch/>
        </p:blipFill>
        <p:spPr>
          <a:xfrm>
            <a:off x="2700360" y="0"/>
            <a:ext cx="1224000" cy="141300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9" descr="https://ds91.centerstart.ru/sites/ds91.centerstart.ru/files/archive/-895x560.jpg"/>
          <p:cNvPicPr/>
          <p:nvPr/>
        </p:nvPicPr>
        <p:blipFill>
          <a:blip r:embed="rId5"/>
          <a:stretch/>
        </p:blipFill>
        <p:spPr>
          <a:xfrm>
            <a:off x="3924360" y="0"/>
            <a:ext cx="2041560" cy="128268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10" descr="https://xn--80aavk2aha7f.xn--d1acj3b/wp-content/uploads/2015/04/453.jpg"/>
          <p:cNvPicPr/>
          <p:nvPr/>
        </p:nvPicPr>
        <p:blipFill>
          <a:blip r:embed="rId6"/>
          <a:stretch/>
        </p:blipFill>
        <p:spPr>
          <a:xfrm>
            <a:off x="5940360" y="0"/>
            <a:ext cx="19717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0" y="95400"/>
          <a:ext cx="4859280" cy="6922800"/>
        </p:xfrm>
        <a:graphic>
          <a:graphicData uri="http://schemas.openxmlformats.org/drawingml/2006/table">
            <a:tbl>
              <a:tblPr/>
              <a:tblGrid>
                <a:gridCol w="4859280"/>
              </a:tblGrid>
              <a:tr h="636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Фразеологиз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За пояс заткну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Остры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Головушку повеси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Ворон счит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Рукой под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Горе моё лук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 Одна нога здесь, а другая т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2" name="Рисунок 9" descr="https://www.e-derslik.edu.az/books/136/assets/img/page156/2.jpg"/>
          <p:cNvPicPr/>
          <p:nvPr/>
        </p:nvPicPr>
        <p:blipFill>
          <a:blip r:embed="rId1"/>
          <a:stretch/>
        </p:blipFill>
        <p:spPr>
          <a:xfrm>
            <a:off x="6761160" y="0"/>
            <a:ext cx="2382840" cy="110484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10" descr="https://thumbs.dreamstime.com/z/%D0%BF-%D0%B0%D1%87%D0%B0-%D0%BF%D0%B5%D1%80%D1%81%D0%BE%D0%BD%D0%B0%D0%B6-%D0%B8%D0%B7-%D0%BC%D1%83-%D1%8C%D1%82%D1%84%D0%B8-%D1%8C%D0%BC%D0%B0-%D1%83%D0%BA%D0%B0-50845084.jpg"/>
          <p:cNvPicPr/>
          <p:nvPr/>
        </p:nvPicPr>
        <p:blipFill>
          <a:blip r:embed="rId2"/>
          <a:stretch/>
        </p:blipFill>
        <p:spPr>
          <a:xfrm>
            <a:off x="5219640" y="404640"/>
            <a:ext cx="1081080" cy="125604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1" descr="https://otvet.imgsmail.ru/download/083a127cdb7c2a73ed9cacaa6d232b79_i-2091.jpg"/>
          <p:cNvPicPr/>
          <p:nvPr/>
        </p:nvPicPr>
        <p:blipFill>
          <a:blip r:embed="rId3"/>
          <a:stretch/>
        </p:blipFill>
        <p:spPr>
          <a:xfrm>
            <a:off x="7308720" y="1413000"/>
            <a:ext cx="1563840" cy="98244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2" descr="https://shareslide.ru/img/thumbs/6c91cba523f431090350ed75f8d592f0-800x.jpg"/>
          <p:cNvPicPr/>
          <p:nvPr/>
        </p:nvPicPr>
        <p:blipFill>
          <a:blip r:embed="rId4"/>
          <a:stretch/>
        </p:blipFill>
        <p:spPr>
          <a:xfrm>
            <a:off x="5292720" y="2205000"/>
            <a:ext cx="1768320" cy="132408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3" descr="https://r1.mt.ru/r29/photo8516/20279208155-0/jpg/bp.jpeg"/>
          <p:cNvPicPr/>
          <p:nvPr/>
        </p:nvPicPr>
        <p:blipFill>
          <a:blip r:embed="rId5"/>
          <a:stretch/>
        </p:blipFill>
        <p:spPr>
          <a:xfrm>
            <a:off x="7308720" y="2997360"/>
            <a:ext cx="1590840" cy="156996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4" descr="https://textarchive.ru/images/1178/2354859/m11900320.jpg"/>
          <p:cNvPicPr/>
          <p:nvPr/>
        </p:nvPicPr>
        <p:blipFill>
          <a:blip r:embed="rId6"/>
          <a:stretch/>
        </p:blipFill>
        <p:spPr>
          <a:xfrm>
            <a:off x="5508720" y="4005360"/>
            <a:ext cx="1317600" cy="181440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5" descr=""/>
          <p:cNvPicPr/>
          <p:nvPr/>
        </p:nvPicPr>
        <p:blipFill>
          <a:blip r:embed="rId7"/>
          <a:stretch/>
        </p:blipFill>
        <p:spPr>
          <a:xfrm>
            <a:off x="7236000" y="5373720"/>
            <a:ext cx="16286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95280" y="1196640"/>
            <a:ext cx="82915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 воду опущены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ы сквозь землю провалиться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радуется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жатый лимон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дьмом небе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 повесил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а поё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TextBox 2"/>
          <p:cNvSpPr/>
          <p:nvPr/>
        </p:nvSpPr>
        <p:spPr>
          <a:xfrm>
            <a:off x="611280" y="18900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овица –</a:t>
            </a: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4" descr="https://phonoteka.org/uploads/posts/2021-04/1619742957_30-phonoteka_org-p-fon-dlya-prezentatsii-domashnee-zadanie-32.png"/>
          <p:cNvPicPr/>
          <p:nvPr/>
        </p:nvPicPr>
        <p:blipFill>
          <a:blip r:embed="rId2"/>
          <a:stretch/>
        </p:blipFill>
        <p:spPr>
          <a:xfrm>
            <a:off x="611280" y="2205000"/>
            <a:ext cx="2211120" cy="283860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5"/>
          <p:cNvSpPr/>
          <p:nvPr/>
        </p:nvSpPr>
        <p:spPr>
          <a:xfrm>
            <a:off x="4067280" y="2708280"/>
            <a:ext cx="4681440" cy="34574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Lucida Sans Unicode"/>
              </a:rPr>
              <a:t>краткое поучительное изреч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0" y="1312920"/>
          <a:ext cx="9144000" cy="5545080"/>
        </p:xfrm>
        <a:graphic>
          <a:graphicData uri="http://schemas.openxmlformats.org/drawingml/2006/table">
            <a:tbl>
              <a:tblPr/>
              <a:tblGrid>
                <a:gridCol w="3630600"/>
                <a:gridCol w="1228680"/>
                <a:gridCol w="4284720"/>
              </a:tblGrid>
              <a:tr h="13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рой яму другому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целая верст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 слова до ум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льше будешь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красна изба углами,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м туда попадёшь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ише едешь 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 красна пирогами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133200" y="-648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94920" y="1196640"/>
            <a:ext cx="6480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 – время, потехе –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нут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у маслом не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мажеш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о от яблон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ядом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ает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руда не вытянешь 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ук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з пруда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познается в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д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горькая правда, чем сладка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правд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3"/>
          <p:cNvSpPr/>
          <p:nvPr/>
        </p:nvSpPr>
        <p:spPr>
          <a:xfrm>
            <a:off x="7488360" y="1268280"/>
            <a:ext cx="1655640" cy="5763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Lucida Sans Unicode"/>
              </a:rPr>
              <a:t>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4"/>
          <p:cNvSpPr/>
          <p:nvPr/>
        </p:nvSpPr>
        <p:spPr>
          <a:xfrm>
            <a:off x="5327640" y="6353280"/>
            <a:ext cx="3816360" cy="504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Lucida Sans Unicode"/>
              </a:rPr>
              <a:t>испортиш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5"/>
          <p:cNvSpPr/>
          <p:nvPr/>
        </p:nvSpPr>
        <p:spPr>
          <a:xfrm>
            <a:off x="6767640" y="2205000"/>
            <a:ext cx="2376360" cy="5032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Lucida Sans Unicode"/>
              </a:rPr>
              <a:t>недале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6"/>
          <p:cNvSpPr/>
          <p:nvPr/>
        </p:nvSpPr>
        <p:spPr>
          <a:xfrm>
            <a:off x="7631280" y="4076640"/>
            <a:ext cx="1512720" cy="504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рыб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7"/>
          <p:cNvSpPr/>
          <p:nvPr/>
        </p:nvSpPr>
        <p:spPr>
          <a:xfrm>
            <a:off x="7559640" y="3068640"/>
            <a:ext cx="1584360" cy="504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бе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8"/>
          <p:cNvSpPr/>
          <p:nvPr/>
        </p:nvSpPr>
        <p:spPr>
          <a:xfrm>
            <a:off x="7128000" y="5084640"/>
            <a:ext cx="2016000" cy="5050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ло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человека кормит, а лень порти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руда не вытащишь и рыбку из пруда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е работает, тот не ес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324000" y="1413000"/>
          <a:ext cx="8569080" cy="4868640"/>
        </p:xfrm>
        <a:graphic>
          <a:graphicData uri="http://schemas.openxmlformats.org/drawingml/2006/table">
            <a:tbl>
              <a:tblPr/>
              <a:tblGrid>
                <a:gridCol w="3498840"/>
                <a:gridCol w="771480"/>
                <a:gridCol w="4298760"/>
              </a:tblGrid>
              <a:tr h="35100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ов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лкование послов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лков бояться – в лес не ходи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жде чем приступать к делу, нужно хорошо к нему приготовить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пля камень точ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учше сделать что-то поздно, чем не делать вообщ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в свои сани не садис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ли боишься трудностей, то не надо и начинать новое дел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учше поздно, чем никогд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же небольшие усилия, которые совершают долго и упорно, приносят хорошие результа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зная броду, не суйся в вод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берись не за своё дел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324000" y="907920"/>
          <a:ext cx="3384360" cy="561672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е пословиц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 хорошо, а два лучш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пешишь – людей насмешиш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гостях хорошо, а дома лучш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во не воробей вылетит – не поймаеш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имеем - не храним, потерявши плаче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волка не корми, он всё в лес смотр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 семи нянек дитя без глаз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849780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"/>
          <p:cNvGraphicFramePr/>
          <p:nvPr/>
        </p:nvGraphicFramePr>
        <p:xfrm>
          <a:off x="4284720" y="907920"/>
          <a:ext cx="4633920" cy="5627880"/>
        </p:xfrm>
        <a:graphic>
          <a:graphicData uri="http://schemas.openxmlformats.org/drawingml/2006/table">
            <a:tbl>
              <a:tblPr/>
              <a:tblGrid>
                <a:gridCol w="4633920"/>
              </a:tblGrid>
              <a:tr h="36576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овицы народов ми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шащий таракан в суп попадает (удмурт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ыре глаза видят больше, чем два (англий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жде чем сказать, поверни язык семь раз (вьетнам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ой хлеб лучше, чужого плова (узбек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ади лягушку хоть на золотой стул, она всё равно опять в лужу прыгнет (немец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ова не знает цены своему хвосту, пока не потеряет его (англий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ишком много поваром только портят кашу (немец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17520" y="-219240"/>
            <a:ext cx="8461440" cy="13096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7"/>
          <p:cNvSpPr/>
          <p:nvPr/>
        </p:nvSpPr>
        <p:spPr>
          <a:xfrm>
            <a:off x="503280" y="155736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ли-были  …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вали их 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ли он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кучно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т как-то раз … и решили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 домик себе один на всех наш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0" descr=""/>
          <p:cNvPicPr/>
          <p:nvPr/>
        </p:nvPicPr>
        <p:blipFill>
          <a:blip r:embed="rId2"/>
          <a:srcRect l="3752" t="4122" r="3629" b="0"/>
          <a:stretch/>
        </p:blipFill>
        <p:spPr>
          <a:xfrm>
            <a:off x="6875640" y="3294000"/>
            <a:ext cx="2268360" cy="2136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1" descr=""/>
          <p:cNvPicPr/>
          <p:nvPr/>
        </p:nvPicPr>
        <p:blipFill>
          <a:blip r:embed="rId3"/>
          <a:stretch/>
        </p:blipFill>
        <p:spPr>
          <a:xfrm>
            <a:off x="2700360" y="4883040"/>
            <a:ext cx="2158920" cy="19749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2" descr=""/>
          <p:cNvPicPr/>
          <p:nvPr/>
        </p:nvPicPr>
        <p:blipFill>
          <a:blip r:embed="rId4"/>
          <a:stretch/>
        </p:blipFill>
        <p:spPr>
          <a:xfrm>
            <a:off x="0" y="3068640"/>
            <a:ext cx="2411280" cy="238284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3"/>
          <p:cNvSpPr txBox="1"/>
          <p:nvPr/>
        </p:nvSpPr>
        <p:spPr>
          <a:xfrm rot="19115400">
            <a:off x="536400" y="2937960"/>
            <a:ext cx="13496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енку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6" name="WordArt 14"/>
          <p:cNvSpPr txBox="1"/>
          <p:nvPr/>
        </p:nvSpPr>
        <p:spPr>
          <a:xfrm rot="2350800">
            <a:off x="7586280" y="3123720"/>
            <a:ext cx="1308240" cy="1255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ох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7" name="WordArt 15"/>
          <p:cNvSpPr txBox="1"/>
          <p:nvPr/>
        </p:nvSpPr>
        <p:spPr>
          <a:xfrm rot="5400000">
            <a:off x="3379680" y="3973320"/>
            <a:ext cx="108900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08" name="Picture 11" descr=""/>
          <p:cNvPicPr/>
          <p:nvPr/>
        </p:nvPicPr>
        <p:blipFill>
          <a:blip r:embed="rId5"/>
          <a:stretch/>
        </p:blipFill>
        <p:spPr>
          <a:xfrm>
            <a:off x="5003640" y="4884840"/>
            <a:ext cx="2159280" cy="1973160"/>
          </a:xfrm>
          <a:prstGeom prst="rect">
            <a:avLst/>
          </a:prstGeom>
          <a:ln w="0">
            <a:noFill/>
          </a:ln>
        </p:spPr>
      </p:pic>
      <p:sp>
        <p:nvSpPr>
          <p:cNvPr id="409" name="WordArt 15"/>
          <p:cNvSpPr txBox="1"/>
          <p:nvPr/>
        </p:nvSpPr>
        <p:spPr>
          <a:xfrm rot="5400000">
            <a:off x="5574240" y="3792960"/>
            <a:ext cx="123372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1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4464000" cy="4079880"/>
          </a:xfrm>
          <a:prstGeom prst="rect">
            <a:avLst/>
          </a:prstGeom>
          <a:ln w="0">
            <a:noFill/>
          </a:ln>
        </p:spPr>
      </p:pic>
      <p:sp>
        <p:nvSpPr>
          <p:cNvPr id="411" name="WordArt 15"/>
          <p:cNvSpPr txBox="1"/>
          <p:nvPr/>
        </p:nvSpPr>
        <p:spPr>
          <a:xfrm rot="5400000">
            <a:off x="-1153440" y="1664280"/>
            <a:ext cx="367344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2" name="WordArt 15"/>
          <p:cNvSpPr txBox="1"/>
          <p:nvPr/>
        </p:nvSpPr>
        <p:spPr>
          <a:xfrm rot="5400000">
            <a:off x="1146600" y="1524600"/>
            <a:ext cx="224136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3" name="WordArt 13"/>
          <p:cNvSpPr txBox="1"/>
          <p:nvPr/>
        </p:nvSpPr>
        <p:spPr>
          <a:xfrm rot="19115400">
            <a:off x="3151080" y="1007640"/>
            <a:ext cx="3113280" cy="167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енку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4" name="WordArt 14"/>
          <p:cNvSpPr txBox="1"/>
          <p:nvPr/>
        </p:nvSpPr>
        <p:spPr>
          <a:xfrm rot="2350800">
            <a:off x="5748480" y="1231920"/>
            <a:ext cx="3009600" cy="2378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ох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5:18:00Z</dcterms:created>
  <dc:creator>Customer</dc:creator>
  <dc:description/>
  <dc:language>en-US</dc:language>
  <cp:lastModifiedBy>Dom</cp:lastModifiedBy>
  <dcterms:modified xsi:type="dcterms:W3CDTF">2022-11-06T11:39:08Z</dcterms:modified>
  <cp:revision>69</cp:revision>
  <dc:subject/>
  <dc:title>ЗАДАНИЕ НА ВНИМАНИЕ!</dc:title>
</cp:coreProperties>
</file>